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CDD-69C0-49C6-AA03-01DD6C61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ED2-60EF-4F67-AFD3-DB222C0A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EBB-C1C2-4A93-9975-7C4BB928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495-1438-4C80-A493-3DCF695B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433-AC78-4739-9702-EE3C1F2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D7E-1464-41A0-9FE8-89676BCB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193-42D0-4935-A147-02A06E3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D1D-7AA8-4CFF-B2D0-E5A26857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12F-ADA4-4DF4-A858-EA33864C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5F8-6D92-4414-9BB3-50DFACE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A07-A8AB-478F-979F-3D30F4A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BFD-0004-4663-9637-1F151359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10E9-C429-4729-BE5A-5CAC327AF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9917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After that it still took seven years </a:t>
            </a:r>
            <a:r>
              <a:rPr b="1" lang="zh-CN" sz="2400" spc="-1" strike="noStrike">
                <a:solidFill>
                  <a:srgbClr val="fc3000"/>
                </a:solidFill>
                <a:latin typeface="Times New Roman"/>
              </a:rPr>
              <a:t>befo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hey finally go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fore…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…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不多久）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宁愿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不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was not long before they got married.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75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议还没结束，他就离开了会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988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left before the meeting en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93704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We hadn’t wait long before the bus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41972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没等多久，汽车就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宁愿饿死，也就不行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943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will die of hunger before he will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38:34Z</dcterms:created>
  <dc:creator>user</dc:creator>
  <dc:description/>
  <dc:language>en-US</dc:language>
  <cp:lastModifiedBy>user</cp:lastModifiedBy>
  <dcterms:modified xsi:type="dcterms:W3CDTF">2003-09-18T02:44:14Z</dcterms:modified>
  <cp:revision>4</cp:revision>
  <dc:subject/>
  <dc:title>PowerPoint 演示文稿</dc:title>
</cp:coreProperties>
</file>